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3DF-0F70-4B18-BE9B-48D5B5ED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4AB8-E407-4BC8-BDCC-C196376E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FE7D-5761-49AA-A0C2-BA6DA554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67C-7377-458E-84D1-772A2C83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752-B2A3-4EDA-A790-2328E27E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E21-90B9-4249-BF07-C7B8998D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874-3745-4715-89F7-BF0B19CB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B98-6CF6-496D-815C-3B685ADC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E0EE-E758-4BCD-95FE-B22AF953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86EB-EA16-4794-BA0D-85E00BE3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88F-325A-47F0-9000-31EE432E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EB6-E934-4210-B44F-1D17A150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F98E-ED32-46B4-8809-5935843EF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Confession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erciful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maker and our judg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sinned against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ought, word, and d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t loved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our whole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t loved our neighbou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ourselve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repent, and are sor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all our s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ather, forgiv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trengthen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love and obey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newness of lif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Jesus Christ our Lord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he leader says a scripture sentence, and then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ar then Christ’s word of gr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Your sins are forgiven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s be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rk 2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095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Prayer © 1999, </a:t>
            </a:r>
            <a:r>
              <a:rPr b="0" i="1" lang="en-US" sz="1800" spc="-1" strike="noStrike">
                <a:solidFill>
                  <a:srgbClr val="bbe0e3"/>
                </a:solidFill>
                <a:latin typeface="Arial Narrow"/>
              </a:rPr>
              <a:t>An Australian Prayer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0:08:27Z</dcterms:created>
  <dc:creator>Anon Anon</dc:creator>
  <dc:description/>
  <dc:language>en-US</dc:language>
  <cp:lastModifiedBy>Anon Anon</cp:lastModifiedBy>
  <dcterms:modified xsi:type="dcterms:W3CDTF">2005-08-16T04:22:44Z</dcterms:modified>
  <cp:revision>15</cp:revision>
  <dc:subject/>
  <dc:title>PowerPoint Presentation</dc:title>
</cp:coreProperties>
</file>